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2DBF-CAE3-4627-97DF-00F60AB1D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0EA1-A07D-4630-BB2E-03B99A415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77FE-EFE1-44E8-B5FD-E60979024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4DE8-2F42-4284-BBE5-F5A12E571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2B8C-1FBA-4636-AA10-8F97199F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E170-ED58-4EA3-B6A8-E30A3A65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5E7F-7B2D-468B-93E6-567B19D5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0380-5C8B-419A-9AD6-F9C83E90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D16F-7A65-4710-9363-2F9B5093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AD0D-AFDE-4D3C-9334-4C02BF73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82F8-5F90-4A96-AEF6-5A6D75E3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9699-D3FA-4DFD-885B-900E35E8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7B56-4ABD-412D-A9C5-B3217425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ECAC-FB45-4C6F-BC76-F017B937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4B4B-FF51-45A0-9092-4AA738D5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CF7A-CE9A-44A9-AFA2-469907C2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C9C0-6232-417F-A6CC-68302B2B7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hyperlink" Target="http://upload.wikimedia.org/wikipedia/commons/c/c3/37_Lyndon_Johnson_3x4.jpg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imdb.com/rg/mediaindex/thumbnail/media/rm1416206336/nm0000069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imdb.com/rg/mediaindex/thumbnail/media/rm1503631360/nm0000054" TargetMode="External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hyperlink" Target="http://z.about.com/d/womenshistory/1/0/z/I/jackie_kennedy.jpg" TargetMode="External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2.jpeg"/><Relationship Id="rId17" Type="http://schemas.openxmlformats.org/officeDocument/2006/relationships/image" Target="../media/image9.jpeg"/><Relationship Id="rId18" Type="http://schemas.openxmlformats.org/officeDocument/2006/relationships/image" Target="../media/image10.jpeg"/><Relationship Id="rId19" Type="http://schemas.openxmlformats.org/officeDocument/2006/relationships/image" Target="../media/image2.jpeg"/><Relationship Id="rId20" Type="http://schemas.openxmlformats.org/officeDocument/2006/relationships/image" Target="../media/image11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hyperlink" Target="http://www.time.com/time/2003/jfk/photoessay/5.html" TargetMode="External"/><Relationship Id="rId7" Type="http://schemas.openxmlformats.org/officeDocument/2006/relationships/image" Target="../media/image13.jpeg"/><Relationship Id="rId8" Type="http://schemas.openxmlformats.org/officeDocument/2006/relationships/hyperlink" Target="http://www.time.com/time/2003/jfk/photoessay/2.html" TargetMode="External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4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e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wanting cak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966960"/>
            <a:ext cx="1398600" cy="13953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e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An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 Ann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President Kennedy, head and shoulders portrait photograph, looking up. Photograph distributed by the White House. "/>
          <p:cNvPicPr/>
          <p:nvPr/>
        </p:nvPicPr>
        <p:blipFill>
          <a:blip r:embed="rId5"/>
          <a:stretch/>
        </p:blipFill>
        <p:spPr>
          <a:xfrm>
            <a:off x="2133720" y="2565360"/>
            <a:ext cx="417240" cy="4064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, 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uary 8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7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r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rist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York,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8" descr="File:37 Lyndon Johnson 3x4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9"/>
          <p:cNvSpPr/>
          <p:nvPr/>
        </p:nvSpPr>
        <p:spPr>
          <a:xfrm>
            <a:off x="152280" y="58672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.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1" descr="Frank Sinatra, portrait for Kings Go Forth, 1958.&#10;Vintage silver gelatin, 7x13.5, signed. $900&#10;Â© 1978 Bill Avery&#10;MPTV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09480" y="5334120"/>
            <a:ext cx="532080" cy="5331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. 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4" descr="c. 1953&#10;Photo by Frank Powolny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219320" y="53341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ih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9" descr="Robert F. Kennedy - Photo"/>
          <p:cNvPicPr/>
          <p:nvPr/>
        </p:nvPicPr>
        <p:blipFill>
          <a:blip r:embed="rId12"/>
          <a:stretch/>
        </p:blipFill>
        <p:spPr>
          <a:xfrm>
            <a:off x="152280" y="6119640"/>
            <a:ext cx="393840" cy="4892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ng 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2" descr="A picture of First Lady Jacqueline Kennedy, wife of President John F. Kennedy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06320" y="6095880"/>
            <a:ext cx="38124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. 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going to a party for Queen Charlotte. Needs her wigmake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3" descr="Robert Frost"/>
          <p:cNvPicPr/>
          <p:nvPr/>
        </p:nvPicPr>
        <p:blipFill>
          <a:blip r:embed="rId15"/>
          <a:stretch/>
        </p:blipFill>
        <p:spPr>
          <a:xfrm>
            <a:off x="1219320" y="6103800"/>
            <a:ext cx="420480" cy="533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ra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housing some solder wives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8" descr="President Kennedy, head and shoulders portrait photograph, looking up. Photograph distributed by the White House. "/>
          <p:cNvPicPr/>
          <p:nvPr/>
        </p:nvPicPr>
        <p:blipFill>
          <a:blip r:embed="rId16"/>
          <a:stretch/>
        </p:blipFill>
        <p:spPr>
          <a:xfrm>
            <a:off x="2133720" y="3936960"/>
            <a:ext cx="417240" cy="406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9" descr="Robert F. Kennedy - Photo"/>
          <p:cNvPicPr/>
          <p:nvPr/>
        </p:nvPicPr>
        <p:blipFill>
          <a:blip r:embed="rId17"/>
          <a:stretch/>
        </p:blipFill>
        <p:spPr>
          <a:xfrm>
            <a:off x="2133720" y="3200400"/>
            <a:ext cx="393480" cy="4572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having her slave ‘punished’ tod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1" descr="President Kennedy, head and shoulders portrait photograph, looking up. Photograph distributed by the White House. "/>
          <p:cNvPicPr/>
          <p:nvPr/>
        </p:nvPicPr>
        <p:blipFill>
          <a:blip r:embed="rId18"/>
          <a:stretch/>
        </p:blipFill>
        <p:spPr>
          <a:xfrm>
            <a:off x="2133720" y="4495680"/>
            <a:ext cx="417240" cy="4572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 sold that worthless little gir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4" descr="President Kennedy, head and shoulders portrait photograph, looking up. Photograph distributed by the White House. "/>
          <p:cNvPicPr/>
          <p:nvPr/>
        </p:nvPicPr>
        <p:blipFill>
          <a:blip r:embed="rId19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 reject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lingham’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 reque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6" descr="President Kennedy, head and shoulders portrait photograph, looking up. Photograph distributed by the White House. "/>
          <p:cNvPicPr/>
          <p:nvPr/>
        </p:nvPicPr>
        <p:blipFill>
          <a:blip r:embed="rId20"/>
          <a:stretch/>
        </p:blipFill>
        <p:spPr>
          <a:xfrm>
            <a:off x="2133720" y="594360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7"/>
          <p:cNvSpPr/>
          <p:nvPr/>
        </p:nvSpPr>
        <p:spPr>
          <a:xfrm>
            <a:off x="2666880" y="5867280"/>
            <a:ext cx="4496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 bought two girls for the price of on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e Lockt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wanting cak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914400"/>
            <a:ext cx="1432080" cy="13176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>
            <a:hlinkClick r:id="rId2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e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An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Ann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>
            <a:hlinkClick r:id="rId4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>
            <a:hlinkClick r:id="rId5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, 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uary 8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7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r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rist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York,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London, 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January 8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17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rookline, Massachuset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Elihu Lock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or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hristi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2133720" y="3200400"/>
            <a:ext cx="44956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alling on people, writing letters, playing the spinet, bak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My cousins in England, the finer  things in life, ca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Anything involving the spin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…what’s movies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…what’s tv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Robison Curuso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6" descr="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370480"/>
            <a:ext cx="685800" cy="460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9" descr="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31840" y="6019920"/>
            <a:ext cx="527040" cy="685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6 Wall Street, New York,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…Phone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e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685800" y="1752480"/>
            <a:ext cx="7467480" cy="14479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An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albu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8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3733920" y="5105520"/>
            <a:ext cx="895320" cy="9475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e Lockt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wanting cak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1" descr="President Kennedy, head and shoulders portrait photograph, looking up. Photograph distributed by the White House. "/>
          <p:cNvPicPr/>
          <p:nvPr/>
        </p:nvPicPr>
        <p:blipFill>
          <a:blip r:embed="rId2"/>
          <a:stretch/>
        </p:blipFill>
        <p:spPr>
          <a:xfrm>
            <a:off x="152280" y="533520"/>
            <a:ext cx="596880" cy="685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3" descr="2"/>
          <p:cNvPicPr/>
          <p:nvPr/>
        </p:nvPicPr>
        <p:blipFill>
          <a:blip r:embed="rId3"/>
          <a:stretch/>
        </p:blipFill>
        <p:spPr>
          <a:xfrm>
            <a:off x="838080" y="2092320"/>
            <a:ext cx="1140120" cy="765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5" descr="5"/>
          <p:cNvPicPr/>
          <p:nvPr/>
        </p:nvPicPr>
        <p:blipFill>
          <a:blip r:embed="rId4"/>
          <a:stretch/>
        </p:blipFill>
        <p:spPr>
          <a:xfrm>
            <a:off x="2341440" y="1905120"/>
            <a:ext cx="876600" cy="1139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7" descr="oaththp"/>
          <p:cNvPicPr/>
          <p:nvPr/>
        </p:nvPicPr>
        <p:blipFill>
          <a:blip r:embed="rId5"/>
          <a:stretch/>
        </p:blipFill>
        <p:spPr>
          <a:xfrm>
            <a:off x="3728880" y="1905120"/>
            <a:ext cx="924120" cy="1150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9" descr="celebthp"/>
          <p:cNvPicPr/>
          <p:nvPr/>
        </p:nvPicPr>
        <p:blipFill>
          <a:blip r:embed="rId6"/>
          <a:stretch/>
        </p:blipFill>
        <p:spPr>
          <a:xfrm>
            <a:off x="5068800" y="1905120"/>
            <a:ext cx="1444680" cy="11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tudent</cp:lastModifiedBy>
  <dcterms:modified xsi:type="dcterms:W3CDTF">2011-05-03T13:39:09Z</dcterms:modified>
  <cp:revision>38</cp:revision>
  <dc:subject/>
  <dc:title>Profile</dc:title>
</cp:coreProperties>
</file>